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439-781F-42AB-BA3F-69D7A9E5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A0C-E1F6-4582-92E0-039F5F02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5E6-B4E3-4306-A26B-D5CFE3B1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BBD-272E-4BDD-B41C-E01984E6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A1B-F784-4284-BA64-C786B7D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752-B054-45D2-9C83-D039ED1D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BEB-A6D9-46FA-99FA-B4249E99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6DE-CA8A-4D01-849C-0108F339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C5E-2180-4C9A-8021-D6FA18A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8D3-629E-45E1-B52C-161ED2A1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C0E-4905-419F-B066-D0708A7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475-549B-4A78-8067-F1ED2FC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A631-7722-4BD8-8C48-EDA5571672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0600" y="1371600"/>
            <a:ext cx="5667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/or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8120" y="3525840"/>
            <a:ext cx="214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ut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ula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784872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84836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7924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3992400"/>
            <a:ext cx="7848720" cy="554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784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609480"/>
            <a:ext cx="7848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4f55"/>
                </a:solidFill>
                <a:latin typeface="Times New Roman"/>
              </a:rPr>
              <a:t>Differential Misclassification of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289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5360" y="2514600"/>
            <a:ext cx="67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now more realistically start with the obser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and correct for misclassif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281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9152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358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39152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5334120"/>
            <a:ext cx="160020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39152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05720" y="41148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59:11Z</dcterms:modified>
  <cp:revision>216</cp:revision>
  <dc:subject/>
  <dc:title>Slide 1</dc:title>
</cp:coreProperties>
</file>